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47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25.xml" ContentType="application/vnd.openxmlformats-officedocument.presentationml.slide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4.xml" ContentType="application/vnd.openxmlformats-officedocument.presentationml.slide+xml"/>
  <Override PartName="/ppt/slides/slide59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58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52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36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50.xml.rels" ContentType="application/vnd.openxmlformats-package.relationships+xml"/>
  <Override PartName="/ppt/slides/_rels/slide34.xml.rels" ContentType="application/vnd.openxmlformats-package.relationships+xml"/>
  <Override PartName="/ppt/slides/_rels/slide49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57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51.xml.rels" ContentType="application/vnd.openxmlformats-package.relationships+xml"/>
  <Override PartName="/ppt/slides/_rels/slide35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8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8.xml.rels" ContentType="application/vnd.openxmlformats-package.relationships+xml"/>
  <Override PartName="/ppt/slides/_rels/slide23.xml.rels" ContentType="application/vnd.openxmlformats-package.relationships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46.xml.rels" ContentType="application/vnd.openxmlformats-package.relationships+xml"/>
  <Override PartName="/ppt/slides/_rels/slide5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  <Override PartName="/ppt/slides/slide51.xml" ContentType="application/vnd.openxmlformats-officedocument.presentationml.slide+xml"/>
  <Override PartName="/ppt/slides/slide52.xml" ContentType="application/vnd.openxmlformats-officedocument.presentationml.slide+xml"/>
  <Override PartName="/ppt/slides/slide53.xml" ContentType="application/vnd.openxmlformats-officedocument.presentationml.slide+xml"/>
  <Override PartName="/ppt/slides/slide54.xml" ContentType="application/vnd.openxmlformats-officedocument.presentationml.slide+xml"/>
  <Override PartName="/ppt/slides/slide5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E54DCA-1B4F-4F7D-9E4F-BC0C15451D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C9A7-C41F-4669-B118-C27065530A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4D65-3C9E-452B-8631-CA192F2D70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DCFBA-6D03-40D6-82B8-51439712AE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B26B2C-38F2-422D-B03A-3210DCD179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EE9759-A02C-4085-8A00-501EED2C2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40071-FA81-46AF-A82F-17259FECAE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E1154-87CC-42F0-8F70-325B7D9632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960FFD-5389-4873-9D14-7DF91021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36D6EA-CFB0-4D8C-962C-D325C77A5B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E7B23A-2FA9-45C7-9AAF-8166695DF6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96113-97CC-4D06-ADB5-21FBD19083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9B65AE-276E-48AB-984F-9466D07393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FD6910-B379-4260-9CF9-97CF27D5EA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65EF3C-9D29-46FC-AEB2-C9A817C179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7D483-6304-4D04-B92C-2E8677DC88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2236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87880" y="1371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684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2236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87880" y="3819600"/>
            <a:ext cx="263340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14C5BBD-602E-4052-A917-9FD5AC54F4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FD640-F411-4189-B27C-A9CD7EE069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7B0E-7C8B-4F04-B856-82BC78B5F4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EDD03-298D-4D3B-A615-66D5F765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06080" y="75960"/>
            <a:ext cx="82040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8E78C-E38B-472F-BD07-B84C271638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883D0-08AB-4842-B3CE-B2977B29D8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47600" y="3819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34127-D792-4846-B119-DDC0C1302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47600" y="1371600"/>
            <a:ext cx="399096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6840" y="3819600"/>
            <a:ext cx="8178840" cy="2235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4FD47A-A6CD-4358-BAC8-31A363FCE9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700"/>
              </a:spcBef>
              <a:buClr>
                <a:srgbClr val="0000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700"/>
              </a:spcBef>
              <a:buClr>
                <a:srgbClr val="0000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700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3164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294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730920" y="62294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B56874-A91E-4A4E-9197-92EF6E17DAE2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457200" y="129528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lick to edit the title text forma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711360" y="6229080"/>
            <a:ext cx="19303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ftr" idx="5"/>
          </p:nvPr>
        </p:nvSpPr>
        <p:spPr>
          <a:xfrm>
            <a:off x="3149640" y="6229080"/>
            <a:ext cx="284472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e574e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sldNum" idx="6"/>
          </p:nvPr>
        </p:nvSpPr>
        <p:spPr>
          <a:xfrm>
            <a:off x="6603840" y="6229080"/>
            <a:ext cx="1828800" cy="51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e574e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4EC1B8-C8A9-49F2-95FB-D1E9AA1EED4D}" type="slidenum">
              <a:rPr b="0" lang="en-US" sz="1400" spc="-1" strike="noStrike">
                <a:solidFill>
                  <a:srgbClr val="5e574e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457200" y="2514600"/>
            <a:ext cx="8153280" cy="0"/>
          </a:xfrm>
          <a:prstGeom prst="line">
            <a:avLst/>
          </a:prstGeom>
          <a:ln w="7632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51"/>
              </a:spcBef>
              <a:buClr>
                <a:srgbClr val="0000ff"/>
              </a:buClr>
              <a:buFont typeface="Tahoma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5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914040" y="533160"/>
            <a:ext cx="772164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lliam Stallings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and Computer Communica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subTitle"/>
          </p:nvPr>
        </p:nvSpPr>
        <p:spPr>
          <a:xfrm>
            <a:off x="914400" y="3028680"/>
            <a:ext cx="6400800" cy="177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Chapter 17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 Black"/>
              </a:rPr>
              <a:t>Transport Protocols</a:t>
            </a: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fixed sliding window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 chapter 7 for operational detai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orks well on 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ilure to receive ACK is taken as flow control indic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oes not work well on unreliable network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not distinguish between lost segment and flow contr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redit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Schem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Greater control on 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ore effective on unreliabl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couples flow control from AC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ACK without granting credit and vice vers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octet has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ach transport segment has seq number, ack number and window size in hea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Header Field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sending, seq number is that of first octet in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 includes AN=i, W=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ctets through SN=i-1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 expected octet is 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ermission to send additional window of W=j oct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.e. octets through i+j-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edit Alloc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rcRect l="0" t="0" r="0" b="13309"/>
          <a:stretch/>
        </p:blipFill>
        <p:spPr>
          <a:xfrm>
            <a:off x="533520" y="1371600"/>
            <a:ext cx="8001000" cy="519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ing and Receiving Perspectiv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1" name="" descr=""/>
          <p:cNvPicPr/>
          <p:nvPr/>
        </p:nvPicPr>
        <p:blipFill>
          <a:blip r:embed="rId1"/>
          <a:srcRect l="0" t="0" r="0" b="7981"/>
          <a:stretch/>
        </p:blipFill>
        <p:spPr>
          <a:xfrm>
            <a:off x="609480" y="1371600"/>
            <a:ext cx="7315200" cy="542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stablishment and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ow each end to now the other exi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egotiation of optional paramete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iggers allocation of transport entity resourc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State 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rcRect l="0" t="0" r="0" b="9796"/>
          <a:stretch/>
        </p:blipFill>
        <p:spPr>
          <a:xfrm>
            <a:off x="914400" y="1371600"/>
            <a:ext cx="7467480" cy="5415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17" name="" descr=""/>
          <p:cNvPicPr/>
          <p:nvPr/>
        </p:nvPicPr>
        <p:blipFill>
          <a:blip r:embed="rId1"/>
          <a:srcRect l="0" t="0" r="0" b="24069"/>
          <a:stretch/>
        </p:blipFill>
        <p:spPr>
          <a:xfrm>
            <a:off x="533520" y="1822320"/>
            <a:ext cx="8001000" cy="351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Not Listen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ject with RST (Reset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Queue request until matching open issu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gnal TS user to notify of pending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replace passive open with accep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ither or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y mutual agre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brupt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 graceful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 wait state must accept incoming data until FIN receiv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Oriented Transport Protocol Mechanis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gical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intenance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TC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Close reque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, requesting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placed in FIN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and deliver data to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t send any mor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hen FIN received, inform user and close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ide Not Initiating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form TS user Place connection in CLOSE WAIT st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tinue to accept data from TS user and transmit 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S user issues CLOSE primi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entity send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clo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ll outstanding data is transmitted from both sid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Both sides agree to termin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nreliable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ternet using IP,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rame relay using LAP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EEE 802.3 using unacknowledged connectionless LLC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get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Problem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rdered Deli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strateg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ion det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ash recover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rdered Deli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umber segments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numbers each octet sequentiall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are numbered by the first octet number in th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ssion Strateg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damaged in trans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 fails to arr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tter does not know of failur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acknowledge successful recei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cumulative acknowled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ime out waiting for ACK trigger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ss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imer Valu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xed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ed on understanding of network behavio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adapt to changing network condi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small leads to unnecessary re-transmiss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o large and response to lost segments is s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hould be a bit longer than round trip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22200" indent="-3222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aptive sche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ay not ACK immediate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an not distinguish between ACK of original segment and re-transmitted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-2685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ditions may change sudde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840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ion 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CK lost, segment is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must recognize duplicat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prior to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ceiver assumes ACK lost and ACKs duplic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er must not get confused with multiple ACK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quence number space large enough to not cycle within maximum life of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uplicate received after closing conn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ncorrect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uplic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tec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39" name="" descr=""/>
          <p:cNvPicPr/>
          <p:nvPr/>
        </p:nvPicPr>
        <p:blipFill>
          <a:blip r:embed="rId1"/>
          <a:srcRect l="0" t="0" r="0" b="12311"/>
          <a:stretch/>
        </p:blipFill>
        <p:spPr>
          <a:xfrm>
            <a:off x="3378240" y="0"/>
            <a:ext cx="57657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redit allo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Problem if AN=i, W=0 closing window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AN=i, W=j to reopen, but this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er thinks window is closed, receiver thinks it is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window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timer expires, send some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uld be re-transmission of previous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liable Sequencing Network Servic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arbitrary length messa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ume virtually 100% reliable delivery by network servi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reliable packet switched network using X.25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frame relay using LAPF control protoco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IEEE 802.3 using connection oriented LLC servi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port service is end to end protocol between two systems on same network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Establish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4000"/>
          </a:bodyPr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way handshak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send SYN, B replies with SY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t SYN handled by re-transmiss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an lead to duplicate SY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gnore duplicate SYNs once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288000" indent="-28800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t or delayed data segments can cause connection problem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 from old connec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23880" indent="-2397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segment numbers fare removed from previou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 SYN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ed ACK to include i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60120" indent="-19188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380880" y="1904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ata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rcRect l="0" t="0" r="0" b="15792"/>
          <a:stretch/>
        </p:blipFill>
        <p:spPr>
          <a:xfrm>
            <a:off x="3406680" y="152280"/>
            <a:ext cx="5737320" cy="632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380880" y="15192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wo Way 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Obsolete SYN Seg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1"/>
          <a:srcRect l="0" t="0" r="0" b="18969"/>
          <a:stretch/>
        </p:blipFill>
        <p:spPr>
          <a:xfrm>
            <a:off x="380880" y="1413000"/>
            <a:ext cx="7925040" cy="4860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06080" y="12949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tate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iagra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49" name="" descr=""/>
          <p:cNvPicPr/>
          <p:nvPr/>
        </p:nvPicPr>
        <p:blipFill>
          <a:blip r:embed="rId1"/>
          <a:srcRect l="0" t="0" r="0" b="5549"/>
          <a:stretch/>
        </p:blipFill>
        <p:spPr>
          <a:xfrm>
            <a:off x="3794040" y="0"/>
            <a:ext cx="53499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hree Way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Handshake: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ampl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rcRect l="0" t="0" r="0" b="5817"/>
          <a:stretch/>
        </p:blipFill>
        <p:spPr>
          <a:xfrm>
            <a:off x="4707000" y="0"/>
            <a:ext cx="4437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nection Termin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ntity in CLOSE WAIT state sends last data segment, followed by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IN arrives before last data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accepts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oses connec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ses last data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ssociate sequence number with FI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r waits for all segments before FIN sequence numb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01680" indent="-3016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ss of segments and obsolete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53760" indent="-2512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st explicitly ACK FI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16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Graceful Close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FIN i and receive AN i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ceive FIN j and send AN j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Wait twice maximum expected segment life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rash Recovery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fter restart all state info is los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is half ope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de that did not crash still thinks it is connec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lose connection using persistence tim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ait for ACK for (time out) * (number of retries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expired, close connection and inform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 RST i in response to any i segment arriv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must decide whether to reconnec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s with lost or duplicate data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&amp; 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ransmission Control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 orient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9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 (UD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onnectionl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Servic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1000"/>
          </a:bodyPr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liable communication between pairs of process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ross variety of reliable and unreliable networks and interne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2120" indent="-3121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wo labeling faciliti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stream pu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CP user can require transmission of all data up to push fla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ceiver will deliver in same mann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voids waiting for full buff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76080" indent="-25992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rgent data sign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dicates urgent data is upcoming in stream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-20772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er decides how to handle i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4004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ssues in a Simple Transprot Protoc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ddress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x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Contr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 and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1"/>
          <a:srcRect l="0" t="0" r="0" b="20074"/>
          <a:stretch/>
        </p:blipFill>
        <p:spPr>
          <a:xfrm>
            <a:off x="533520" y="1519200"/>
            <a:ext cx="8001000" cy="3867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tems Passed to I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passes some parameters down to I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ecede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delay/low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throughput/high throughpu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ormal reliability/high reliabil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urit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establish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e way handshak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etween pairs of por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port can connect to multiple destin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 txBox="1"/>
          <p:nvPr/>
        </p:nvSpPr>
        <p:spPr>
          <a:xfrm>
            <a:off x="406440" y="7632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2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trans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gical stream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ctets numbered modulo 2</a:t>
            </a:r>
            <a:r>
              <a:rPr b="0" lang="en-US" sz="2400" spc="-1" strike="noStrike" baseline="30000">
                <a:solidFill>
                  <a:srgbClr val="000000"/>
                </a:solidFill>
                <a:latin typeface="Tahoma"/>
              </a:rPr>
              <a:t>23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low control by credit allocation of number of octe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buffered at transmitter and recei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TCP Mechanisms (3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 ter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Graceful clos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P users issues CLOSE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sets FIN flag on last segment s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brupt termination by ABORT primitiv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ntity abandons all attempts to send or receive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ST segment transmit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0">
              <a:spcBef>
                <a:spcPts val="49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Implementation Policy Option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n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eliv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cep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Acknowledg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Send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no push or close TCP entity transmits at its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ata buffered at transmit buff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construct segment per data batch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wait for certain amount of dat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Deliv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absence of push, deliver data at own convenienc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deliver as each in order segment receiv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buffer data from more than one seg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cep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egments may arrive out of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order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ly accept segments in ord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scard out of order segmen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 window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ccept all segments within receive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transmi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maintains queue of segments transmitted but not acknowledg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CP will retransmit if not ACKed in give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 onl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tc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dividua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ddress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Target user specified by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ser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sually host, por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Called a socket in TCP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rt represents a particular transport service (TS) us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ransport entity identific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Generally only one per h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f more than one, then usually one of each typ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3" marL="1440000" indent="-205560">
              <a:spcBef>
                <a:spcPts val="451"/>
              </a:spcBef>
              <a:buClr>
                <a:srgbClr val="0000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Specify transport protocol (TCP, UDP)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st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 attached network devi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1028520" indent="-20556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 an internet, a global internet addres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8520" indent="-2570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twork numb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cknowled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mmediat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umulativ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ngestion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8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1122, Requirements for Internet hos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transmission timer managemen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stimate round trip delay by observing pattern of dela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time to value somewhat greater than estima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mple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xponential averag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TT Variance Estimation (Jacobson’s algorithm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80880" y="761760"/>
            <a:ext cx="8204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se of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Averag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rcRect l="0" t="0" r="0" b="5882"/>
          <a:stretch/>
        </p:blipFill>
        <p:spPr>
          <a:xfrm>
            <a:off x="4560840" y="0"/>
            <a:ext cx="474516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title"/>
          </p:nvPr>
        </p:nvSpPr>
        <p:spPr>
          <a:xfrm>
            <a:off x="406080" y="7617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Jacobson’s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TO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alculation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rcRect l="0" t="0" r="0" b="6874"/>
          <a:stretch/>
        </p:blipFill>
        <p:spPr>
          <a:xfrm>
            <a:off x="4289400" y="0"/>
            <a:ext cx="48546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Exponential RTO Backoff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ince timeout is probably due to congestion (dropped packet or long round trip), maintaining RTO is not good idea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increased each time a segment is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TO = q*RTO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mmonly q=2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inary exponential backoff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Karn’s Algorithm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f a segment is re-transmitted, the ACK arriving may b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the first copy of the segme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62720" indent="-212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TT longer than expect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econd cop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No way to tel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 measure RTT for re-transmitted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alculate backoff when re-transmission occur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 backoff RTO until ACK arrives for segment that has not been re-transmitt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Window Management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9000"/>
          </a:bodyPr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low start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wnd = MIN[credit, cwnd]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tart connection with cwnd=1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rement cwnd at each ACK, to some max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05280" indent="-3052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ynamic windows sizing on conges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en a timeout occu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slow start threshold to half current congestion wind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sthresh=cwnd/2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t cwnd = 1 and slow start until cwnd=ssthresh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017000" indent="-2034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creasing cwnd by 1 for every ACK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60960" indent="-25416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cwnd &gt;=ssthresh, increase cwnd by 1 for each RT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datagram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 768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Connectionless service for application level procedure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relia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ivery and duplication control not guarante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duced overhea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e.g. network management (Chapter 19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U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Inward data collec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Outward data dissemin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quest-Respons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al time application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UDP Header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pic>
        <p:nvPicPr>
          <p:cNvPr id="201" name="" descr=""/>
          <p:cNvPicPr/>
          <p:nvPr/>
        </p:nvPicPr>
        <p:blipFill>
          <a:blip r:embed="rId1"/>
          <a:srcRect l="0" t="0" r="0" b="39534"/>
          <a:stretch/>
        </p:blipFill>
        <p:spPr>
          <a:xfrm>
            <a:off x="1414440" y="2338560"/>
            <a:ext cx="6315120" cy="1319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inding Addresses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our method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Know address ahead of tim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.g. collection of network device sta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ell known address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ame 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process request to well known addres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Required Read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Stallings chapter 17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FC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Multiplexing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ultiple users employ same transport protocol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User identified by port number or service access point (SAP)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May also multiplex with respect to network services used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e.g. multiplexing a single virtual X.25 circuit to a number of transport service us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X.25 charges per virtual circuit connection ti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Flow Control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Longer transmission delay between transport entities compared with actual transmission time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elay in communication of flow control info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Variable transmission delay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fficult to use timeou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Flow may be controlled because: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user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receiving transport entity can not keep u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sults in buffer filling up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06080" y="75960"/>
            <a:ext cx="8204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 Black"/>
              </a:rPr>
              <a:t>Coping with Flow Control Requirements (1)</a:t>
            </a:r>
            <a:endParaRPr b="0" lang="en-US" sz="3600" spc="-1" strike="noStrike">
              <a:solidFill>
                <a:srgbClr val="000000"/>
              </a:solidFill>
              <a:latin typeface="Arial Black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178840" cy="4686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Do nothing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gments that overflow are discarde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nding transport entity will fail to get ACK and will retransmi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499"/>
              </a:spcBef>
              <a:buClr>
                <a:srgbClr val="0000ff"/>
              </a:buClr>
              <a:buFont typeface="Monotype Sorts" charset="2"/>
              <a:buChar char="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us further adding to incomin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00ff"/>
              </a:buClr>
              <a:buFont typeface="Monotype Sorts" charset="2"/>
              <a:buChar char="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ahoma"/>
              </a:rPr>
              <a:t>Refuse further segments</a:t>
            </a:r>
            <a:endParaRPr b="0" lang="en-US" sz="28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umsy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ff"/>
              </a:buClr>
              <a:buFont typeface="Monotype Sorts" charset="2"/>
              <a:buChar char="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plexed connections are controlled on aggregate flow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85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1-02T09:06:22Z</dcterms:created>
  <dc:creator>Adrian &amp; Wendy</dc:creator>
  <dc:description/>
  <dc:language>en-US</dc:language>
  <cp:lastModifiedBy>Adrian &amp; Wendy</cp:lastModifiedBy>
  <dcterms:modified xsi:type="dcterms:W3CDTF">1999-11-08T15:02:47Z</dcterms:modified>
  <cp:revision>47</cp:revision>
  <dc:subject/>
  <dc:title>William Stallings Data and Computer Communications</dc:title>
</cp:coreProperties>
</file>